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47A0-5D71-494A-8A54-64D24C41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D4F-BFFC-4A33-9EBD-C8C152FE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94E-4FA3-45B9-A9A4-05C6A30C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1836-B1A3-4555-85D9-27FE90CF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47E-4315-4DB5-8A9C-42163D81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E6A-382A-45DE-9C21-9A86F191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8AA-D8C7-4052-937F-4875F7AD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F513-C414-4FA1-9F0B-14D96C3D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799-A6DE-4F18-9A8A-7135793F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C1D-F366-4385-B9FF-3054EC8A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2B28-DAD2-477A-B116-3D35BA57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2B8-3110-486B-8BAB-D702C50E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ccec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C8B9-18A7-4CE0-BF8F-1963C2736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mccarty.htm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ccec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999400">
            <a:off x="375840" y="1757160"/>
            <a:ext cx="8450280" cy="38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letric 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uitar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7451640" y="5446800"/>
            <a:ext cx="169236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y H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17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228600"/>
            <a:ext cx="5638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bber Bulle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. 27, 2012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ccec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McCarty"/>
          <p:cNvPicPr/>
          <p:nvPr/>
        </p:nvPicPr>
        <p:blipFill>
          <a:blip r:embed="rId1"/>
          <a:srcRect l="31349" t="20191" r="0" b="0"/>
          <a:stretch/>
        </p:blipFill>
        <p:spPr>
          <a:xfrm>
            <a:off x="304920" y="838080"/>
            <a:ext cx="3809880" cy="182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019920"/>
            <a:ext cx="8153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ectric Guitar Design and Techn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3 February 2012,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mccart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00400" y="347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McCarty"/>
          <p:cNvPicPr/>
          <p:nvPr/>
        </p:nvPicPr>
        <p:blipFill>
          <a:blip r:embed="rId3"/>
          <a:srcRect l="0" t="-2423" r="2933" b="0"/>
          <a:stretch/>
        </p:blipFill>
        <p:spPr>
          <a:xfrm>
            <a:off x="5791320" y="2590920"/>
            <a:ext cx="2514600" cy="319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05520" y="209376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1905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I have an electric gui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 rot="1668600">
            <a:off x="914040" y="2743200"/>
            <a:ext cx="2743200" cy="3124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19520" y="50292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v flyer, which Ted McCarty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ccec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Electric gui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ric guitar had a finger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 magnetic pick up for stringed musical instru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unting or the magnetic pick up for a stringed instruments didn’t change the tone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3145800">
            <a:off x="5257440" y="4267080"/>
            <a:ext cx="228600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ccec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Ted McC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d McCarty worked for Gi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49 he became the vice president for Gi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reated the V Flyer, Explorer, SG,and the Fire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presented the guitars in 1948 to NA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ired from Gibson in 19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iring from Gibson, he bought Bigs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d on April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41:34Z</dcterms:created>
  <dc:creator>install</dc:creator>
  <dc:description/>
  <dc:language>en-US</dc:language>
  <cp:lastModifiedBy>install</cp:lastModifiedBy>
  <dcterms:modified xsi:type="dcterms:W3CDTF">2012-03-09T15:02:10Z</dcterms:modified>
  <cp:revision>8</cp:revision>
  <dc:subject/>
  <dc:title>Slide 1</dc:title>
</cp:coreProperties>
</file>